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6F6F98-1C70-41EF-BF3B-44D5CB2C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3D561A-2350-4861-81B2-1E347B85F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45E370-DC21-4C80-AFF5-511C66A64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82D49E-5BE0-4775-9758-633E1161B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91A632-BE17-44F4-AFE0-DA351B95C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4B050F-033B-4F6A-9815-30001CE83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4491A1-5CF6-4388-9116-64058B4CB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645D9C-7E29-46FB-A8AE-B7D5224D83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7BA222-D4E5-4D02-816B-A6FA452A8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B0260-A4D2-4500-B5DF-84E78401E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329BCA-76CB-4618-B40F-D6A5BD374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16DDDF-D975-4D30-8CDB-80D9663FA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5CE237-3156-4858-A1D8-B2033E3BC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0FFFD4-1C04-42C0-B98A-3423C7B86D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843-9550-4D0A-9EF7-75076076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FAF-D7F9-401D-B77B-EFD94F7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29F-AF16-4620-AC60-A1442CF0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1BC-6E6B-4925-B289-5829A3D9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E7C5-04EF-446E-A68E-B10EA501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040-2A37-4F80-B795-C187B9F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1129-DF8B-41E8-8BD9-488703F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C9BF-F74A-41A8-912D-D8E92E1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9DE0-D5A5-4CF3-A22F-982AB87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7E2D-0EA4-4BD1-8E15-0AA89CC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BFE-247E-45AD-9C8E-38AEE81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17F-E83F-4AED-920D-2728895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D27-4F75-49BA-9B7E-E096E83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260E-09FE-44D0-AB3D-E094E4F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F1E-245E-4F1F-A94F-46F0146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099-B4A8-4650-8206-12C6F95F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03A-A822-4420-8EDE-AE088FB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378-8F5B-47D1-91A8-2D6A199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31A-A016-4369-A7A6-A674EA13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43D-03AA-4BF7-8AE6-6BA333F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326-2CDB-486F-B4F4-66F3E226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7CC-67C4-491C-87E7-7B58361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B4F-1F3F-4824-9237-305D276A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0C6-9B23-4C34-91E2-ADDA869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883-B57B-4853-A562-716EB995A7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705-9AD4-401E-A5F9-4D69E520FC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l_4e6c39ca5a365b628900ac53057ec89b"/>
          <p:cNvPicPr/>
          <p:nvPr/>
        </p:nvPicPr>
        <p:blipFill>
          <a:blip r:embed="rId2"/>
          <a:stretch/>
        </p:blipFill>
        <p:spPr>
          <a:xfrm>
            <a:off x="5715000" y="1905120"/>
            <a:ext cx="18828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Ferris, Erin</cp:lastModifiedBy>
  <dcterms:modified xsi:type="dcterms:W3CDTF">2012-12-12T13:33:05Z</dcterms:modified>
  <cp:revision>15</cp:revision>
  <dc:subject/>
  <dc:title>Slide 1</dc:title>
</cp:coreProperties>
</file>